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1E96-89B4-4DF3-B887-5FD041178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22EA-52A6-4C7F-B1F3-0EE2FC36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24C2-1D69-4F8E-A273-343488A0C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58CA-B475-4FF8-92EC-2FFB73AB9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2F3E-78D4-4A49-9213-932D13DF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47D2-B470-4ABD-82E8-2900747D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1E40-C4EA-43E3-85BD-C81E6784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6F4C-9802-44B2-B0C2-6652A075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483A-755C-4ADC-9D63-6CC024B4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6BDE-93DD-4B9C-9464-965E2DFC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0D39-75D8-437B-A728-B0555DBD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97E7-8CE5-4DF2-A6A4-2942BA83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9F4E-64E2-48BF-B493-2BFA3AF27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rc_EdoFinancieroAcum31Dic04" descr=""/>
          <p:cNvPicPr/>
          <p:nvPr/>
        </p:nvPicPr>
        <p:blipFill>
          <a:blip r:embed="rId1"/>
          <a:stretch/>
        </p:blipFill>
        <p:spPr>
          <a:xfrm>
            <a:off x="914400" y="0"/>
            <a:ext cx="723888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1T01:09:26Z</dcterms:created>
  <dc:creator>GRUPO MEXITOS</dc:creator>
  <dc:description/>
  <dc:language>en-US</dc:language>
  <cp:lastModifiedBy>Instituto Electoral del Estad</cp:lastModifiedBy>
  <dcterms:modified xsi:type="dcterms:W3CDTF">2005-01-27T16:25:28Z</dcterms:modified>
  <cp:revision>16</cp:revision>
  <dc:subject/>
  <dc:title>Presentación de PowerPoint</dc:title>
</cp:coreProperties>
</file>